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F297-4211-49AA-884E-5206739BB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9330-0D7E-4360-B3C7-04133645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E690-5D29-4558-AC7E-06AAF6408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1C6F-1E64-44E7-98BC-6DCA0F68C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2726-5A0E-4491-8775-64F6CC71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8E2E-EF02-491A-BFAD-99B46938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7E16-A960-4833-A89D-7E04DD51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ED7D-BFA0-4E8A-B1BA-E8FF3010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A407-8138-4BED-ACCC-9174E2D7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B634-1166-422A-9EA3-C6C3D2FF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0004-ABBF-4F08-BED9-D80CA0E1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9174-F7DD-4627-8A08-D23D26A4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   </a:t>
            </a:r>
            <a:fld id="{DD3E7679-358A-481E-8F1A-27970E0F62EF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09680" y="4981680"/>
            <a:ext cx="4572000" cy="13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ocionek,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enQ Mobile PHE R&amp;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  <a:ea typeface="文鼎中黑"/>
              </a:rPr>
              <a:t>Munich, Jan 30th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451240"/>
            <a:ext cx="80755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spcAft>
                <a:spcPts val="25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  <a:ea typeface="文鼎中黑"/>
              </a:rPr>
              <a:t>R&amp;D Productiv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5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  <a:ea typeface="文鼎中黑"/>
              </a:rPr>
              <a:t>- An alternative approa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F632-6AAB-4DAC-B401-EB85F2109CC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639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Some Thoughts on role-based R&amp;D Re-organization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62020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Arial Unicode MS"/>
              </a:rPr>
              <a:t>Idea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Take out „non-productive“ role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Reduce amount of specialization, and try utilizing more „generalists“ of highest competencies (supports Scrum team needs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Arial Unicode MS"/>
              </a:rPr>
              <a:t>Approach: Structure R&amp;D in two main categorie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400" spc="-1" strike="noStrike" u="sng">
                <a:solidFill>
                  <a:srgbClr val="3a0e66"/>
                </a:solidFill>
                <a:uFillTx/>
                <a:latin typeface="Arial Unicode MS"/>
              </a:rPr>
              <a:t>Production centers</a:t>
            </a: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 that develop that develop (parts of) the product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206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UI desigers who define UI and usability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206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Scrum teams who write software (device layer, middleware, components, applications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206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Architecture teams that design the system (HW, SW, MD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206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lanning and integration teams (release plans, sprint plans, etc.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206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MD and HW teams that design layouts, produce prototypes, build samples, etc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400" spc="-1" strike="noStrike" u="sng">
                <a:solidFill>
                  <a:srgbClr val="3a0e66"/>
                </a:solidFill>
                <a:uFillTx/>
                <a:latin typeface="Arial Unicode MS"/>
              </a:rPr>
              <a:t>Service centers</a:t>
            </a: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 that support the activities of the production center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206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Config &amp; Build Mgmt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206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System test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206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EMV test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206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IT infrastructur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206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Training and education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206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Contract mgmt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Arial Unicode MS"/>
              </a:rPr>
              <a:t>Next step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R&amp;D mgmt team to categorize all staff in production and service contributor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R&amp;D mgmt to identify all people who are not needed for either category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7886880" y="5410080"/>
            <a:ext cx="1104840" cy="6858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文鼎中黑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3089-1F84-459A-A533-3058C9A6E62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D2D0-A907-4B96-A85A-83F721BA02E8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Siegfried Bocionek</cp:lastModifiedBy>
  <dcterms:modified xsi:type="dcterms:W3CDTF">2006-01-30T08:27:47Z</dcterms:modified>
  <cp:revision>288</cp:revision>
  <dc:subject/>
  <dc:title>PowerPoint 簡報</dc:title>
</cp:coreProperties>
</file>